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762-8912-4097-9DBC-C1D5EEB2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E6B-9DF0-4989-804D-718B238B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B02-BC07-40A1-AC9D-51AE3F0C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216-4546-40C0-912E-86F276ED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8B0-7678-41D0-8E64-C3F81CB7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B4D-3BD5-4EEB-9BC5-80950B07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9A0-613F-44A8-B44A-DB2731D1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8816-41C3-4309-86B3-3479FC21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4CD-BA46-45DC-94FD-0EF9EE10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452-1D1C-4A9C-A0BA-981AC946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392-64CA-4B55-B247-C8733C30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1E3-4480-4828-9AC2-08DEDD5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D59C-B59B-4CB4-86E7-7FAF936D2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523800"/>
            <a:ext cx="75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utentikussá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Autentikusság és kommodifikáció a turizmu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8480" y="2021040"/>
            <a:ext cx="80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Jelentése: eredetisé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5120" y="3429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Formális eredetiség – a megjelenés, a látvány, a környezet </a:t>
            </a:r>
            <a:r>
              <a:rPr b="0" i="1" lang="hu-HU" sz="2800" spc="-1" strike="noStrike">
                <a:solidFill>
                  <a:srgbClr val="000000"/>
                </a:solidFill>
                <a:latin typeface="Book Antiqua"/>
              </a:rPr>
              <a:t>eredeti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6120" y="483084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Funkcionális eredetiség – tartalom, a működés, az adott dolog vagy cselekvés fennmaradásának </a:t>
            </a:r>
            <a:r>
              <a:rPr b="0" i="1" lang="hu-HU" sz="2800" spc="-1" strike="noStrike">
                <a:solidFill>
                  <a:srgbClr val="000000"/>
                </a:solidFill>
                <a:latin typeface="Book Antiqua"/>
              </a:rPr>
              <a:t>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200" y="6515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523800"/>
            <a:ext cx="75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utentikussá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Autentikusság és kommodifikáció a turizmu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6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Autentikusság ma – divat és ellentmon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080" y="3116160"/>
            <a:ext cx="885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z utazó-turista ellentét ma már nem áll fenn – az ‘utazó’ is tömegjelenséggé, a tömegturizmus részévé vá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3000" y="4438800"/>
            <a:ext cx="819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z autentikusság főleg a helyi lakosok és a  turisták arányától – ma nem a hagyományok, hanem a modern élet autentikussága érhető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" y="6515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523800"/>
            <a:ext cx="75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utentikussá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Autentikusság és kommodifikáció a turizmu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8480" y="2021040"/>
            <a:ext cx="80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Mi lehet autentik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080" y="3116160"/>
            <a:ext cx="56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Táj – gazdálkodási mód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488304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Épületek - városkép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7600" y="399888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Foglalkozás - munkavég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86040" y="5767560"/>
            <a:ext cx="522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Szívélyesség - vendégbarátsá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200" y="6515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523800"/>
            <a:ext cx="75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utentikussá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Autentikusság és kommodifikáció a turizmu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6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Miért keres(het)ik a turisták az autentikusságo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080" y="3354480"/>
            <a:ext cx="885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6420f"/>
                </a:solidFill>
                <a:latin typeface="Book Antiqua"/>
              </a:rPr>
              <a:t>Menekülés </a:t>
            </a: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motívum – a hétköznap szürkesége és elidegenedett viszonyai helyett a ‘közösség’ megtalálá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3000" y="4883040"/>
            <a:ext cx="819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6420f"/>
                </a:solidFill>
                <a:latin typeface="Book Antiqua"/>
              </a:rPr>
              <a:t>Bizonytalanság</a:t>
            </a: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 motívum – az utazás bizonytalansága és a desztináció komplexitása miatt a turistának igazolásra van szük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200" y="6515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523800"/>
            <a:ext cx="75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utentikussá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Autentikusság és kommodifikáció a turizmu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6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Találhatnak-e a turisták autentikus </a:t>
            </a:r>
            <a:r>
              <a:rPr b="1" i="1" lang="hu-HU" sz="3600" spc="-1" strike="noStrike">
                <a:solidFill>
                  <a:srgbClr val="cc9900"/>
                </a:solidFill>
                <a:latin typeface="Book Antiqua"/>
              </a:rPr>
              <a:t>élményt</a:t>
            </a: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9080" y="3116160"/>
            <a:ext cx="88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Legtöbbször nem, mert nem is keresik – a média és a turizmus szakma irányítja választásai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3000" y="4216320"/>
            <a:ext cx="819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Legtöbbször nem, mert a helyi lakosság nem engedi be őket a saját hétköznapi életé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8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A turisták a számukra konstruált terekben mozogn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200" y="6515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58920" y="523800"/>
            <a:ext cx="75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utentikussá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Autentikusság és kommodifikáció a turizmu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6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Boorstin – a turizmus mint ‘pszeudojelenség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080" y="3354480"/>
            <a:ext cx="885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z (amerikai) turista nem igényli az autentikusságot – a helyiektől és a vendéglátó környezettől elzárt </a:t>
            </a:r>
            <a:r>
              <a:rPr b="0" i="1" lang="hu-HU" sz="2800" spc="-1" strike="noStrike">
                <a:solidFill>
                  <a:srgbClr val="000000"/>
                </a:solidFill>
                <a:latin typeface="Book Antiqua"/>
              </a:rPr>
              <a:t>pszeudojelenségeket</a:t>
            </a: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 keres - egy nem létező világ illúzió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883040"/>
            <a:ext cx="906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 turista terek fejlesztésében a látványosság és különlegesség iránti igény a meghatározó – az autentikusság, mint igény nem jelenik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200" y="6515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58920" y="523800"/>
            <a:ext cx="75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utentikussá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Autentikusság és kommodifikáció a turizmu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86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Turner és Ash – a turista, mint irányított fogyaszt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9080" y="3259080"/>
            <a:ext cx="885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 turistának segítségre van szüksége az idegen környezetben – az utazási szakma nélkül nem boldogul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740120"/>
            <a:ext cx="906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 turisztikai attrakciók és programok a rövid tartózkodás miatt szükségképpen leegyszerűsített igényekhez igazodnak – </a:t>
            </a:r>
            <a:r>
              <a:rPr b="0" i="1" lang="hu-HU" sz="2800" spc="-1" strike="noStrike">
                <a:solidFill>
                  <a:srgbClr val="000000"/>
                </a:solidFill>
                <a:latin typeface="Book Antiqua"/>
              </a:rPr>
              <a:t>leegyszerűsített autentikusságot </a:t>
            </a: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mutat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200" y="6515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58920" y="523800"/>
            <a:ext cx="75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utentikussá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Autentikusság és kommodifikáció a turizmu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6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Turner és Ash – a turista, mint irányított fogyaszt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9080" y="3259080"/>
            <a:ext cx="885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 turistának segítségre van szüksége az idegen környezetben – az utazási szakma nélkül nem boldogul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740120"/>
            <a:ext cx="906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 turisztikai attrakciók és programok a rövid tartózkodás miatt szükségképpen leegyszerűsített igényekhez igazodnak – </a:t>
            </a:r>
            <a:r>
              <a:rPr b="0" i="1" lang="hu-HU" sz="2800" spc="-1" strike="noStrike">
                <a:solidFill>
                  <a:srgbClr val="000000"/>
                </a:solidFill>
                <a:latin typeface="Book Antiqua"/>
              </a:rPr>
              <a:t>leegyszerűsített autentikusságot </a:t>
            </a: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mutat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200" y="6515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523800"/>
            <a:ext cx="75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utentikussá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Autentikusság és kommodifikáció a turizmu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86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MacCannell– az autentikusság, mint  turista becsapá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080" y="3259080"/>
            <a:ext cx="88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 turista keresi a hitelességet a hétköznapi életén kívülre tett utazása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740120"/>
            <a:ext cx="906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 helyi lakosok és a turizmus szakma azonban irányítja a turistát – nem engedi meg, hogy belelásson a helyiek hétköznapi életé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200" y="6515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8920" y="523800"/>
            <a:ext cx="75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utentikussá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Autentikusság és kommodifikáció a turizmu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86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MacCannell– az autentikusság, mint  turista becsapá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080" y="3132000"/>
            <a:ext cx="88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 turista terek ezért az autentikusság több terét különítik el – ezt nevezi </a:t>
            </a:r>
            <a:r>
              <a:rPr b="0" i="1" lang="hu-HU" sz="2800" spc="-1" strike="noStrike">
                <a:solidFill>
                  <a:srgbClr val="000000"/>
                </a:solidFill>
                <a:latin typeface="Book Antiqua"/>
              </a:rPr>
              <a:t>színpadi</a:t>
            </a: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 autentikusság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313160"/>
            <a:ext cx="906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 turista csak a színpadot látja, nem kap betekintést a színpad mögötti terekben zajló valódi élet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00" y="5495760"/>
            <a:ext cx="906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Ez a turisták és a helyi lakosok számarányának változása miatt szükségszerű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200" y="6515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28:25Z</dcterms:created>
  <dc:creator>Mayer Péter</dc:creator>
  <dc:description/>
  <dc:language>en-US</dc:language>
  <cp:lastModifiedBy>Mayer Péter</cp:lastModifiedBy>
  <dcterms:modified xsi:type="dcterms:W3CDTF">2007-04-20T06:15:18Z</dcterms:modified>
  <cp:revision>580</cp:revision>
  <dc:subject/>
  <dc:title>1. dia</dc:title>
</cp:coreProperties>
</file>